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D748-4E9F-472E-B822-0B6D1EC10EE7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E019-CFAE-4862-81D1-90303FEAEF50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F140-09D1-4D6B-8590-7EA26FAD15CD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7A0E-8E4E-4C9E-A3B4-47BE5685B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E580-E94F-4A7E-8B45-270BDB6A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E0CE-E997-4F86-BC36-72FF5D192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08E4-1069-4BC4-B1C1-F83704F8F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0FBB-C57F-4E61-B5BE-65E6BA09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DE2F-59EE-481A-AEAB-521BDE86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76B4-67DF-4CC1-8972-FF5A9164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80FB-30BA-477C-9B71-39070E88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F8D4-78E2-4C58-80E5-2DE43464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AD2C-3C90-45B3-B95C-452617E6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0040-ED99-46A0-9630-9FC621EC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8CFE-DD56-453E-812E-21FAAE82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AD75-D8AC-4F68-BDC3-4B16F20B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95AC-E1ED-4ADD-B4F4-3A552BD8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1BF1-32C2-4F47-88CE-01C44509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16DB-B427-49A0-BA96-F2C4099FE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D28F-30FA-4638-BE18-EE4DDD5E0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322D-9B39-4A07-A752-6426267D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C4D1-DD92-464D-B3B3-A13C29E3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5131-6EE1-4108-86FD-A22C013A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1820-78DE-439A-A9FB-50D62704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D220-5A3C-4ABB-81BE-CD9D98F1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14CF-C24B-4EFA-AFB2-F5E7A25C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A063-A05D-40BE-8900-BD4F84F5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06AB-0F1A-4CAE-A062-46114128F7EA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CBEE-8116-45CE-A529-DB3A847FC3FD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EABE-9057-4E25-B417-99AB13AD4E8F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04EB-D3AD-41E2-AEF7-0AF8F3EF680A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4F1B-8EBA-4F62-8551-B841CC4A812A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EAD1-2863-4105-871D-72D818809900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2B5B-D90F-4FCA-B6F9-A21B8F4AE7A9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7597-0839-4DBC-88C2-FE823843FBC5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860400" y="149688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971640" y="1785960"/>
            <a:ext cx="3456000" cy="247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3851280" y="4335480"/>
            <a:ext cx="45846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2FD4-2CFD-4278-8961-AD7C035E56AE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395E-C07C-4FC4-B286-EBFA7B04CE08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09BF-2D68-481D-A968-F93D68659D0C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9D58-BBE1-4F06-AC49-C0A63CF8C72F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4"/>
          <p:cNvSpPr/>
          <p:nvPr/>
        </p:nvSpPr>
        <p:spPr>
          <a:xfrm>
            <a:off x="826920" y="9936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PREGLED FINANČ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9"/>
          <p:cNvSpPr/>
          <p:nvPr/>
        </p:nvSpPr>
        <p:spPr>
          <a:xfrm>
            <a:off x="5740560" y="63324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250920" y="1641600"/>
            <a:ext cx="8353440" cy="4532040"/>
            <a:chOff x="250920" y="1641600"/>
            <a:chExt cx="8353440" cy="4532040"/>
          </a:xfrm>
        </p:grpSpPr>
        <p:pic>
          <p:nvPicPr>
            <p:cNvPr id="109" name="Picture 9" descr=""/>
            <p:cNvPicPr/>
            <p:nvPr/>
          </p:nvPicPr>
          <p:blipFill>
            <a:blip r:embed="rId1"/>
            <a:stretch/>
          </p:blipFill>
          <p:spPr>
            <a:xfrm>
              <a:off x="285480" y="1641600"/>
              <a:ext cx="830844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0" descr=""/>
            <p:cNvPicPr/>
            <p:nvPr/>
          </p:nvPicPr>
          <p:blipFill>
            <a:blip r:embed="rId2"/>
            <a:stretch/>
          </p:blipFill>
          <p:spPr>
            <a:xfrm>
              <a:off x="250920" y="2290680"/>
              <a:ext cx="8353440" cy="388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9965-D194-4228-A373-CF2D4099E1AA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CB3C-F52B-473B-A904-835E03D4588C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 5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123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4: 654 v vrednosti 45,1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D952-1F9B-4AD0-BD48-8C9FE91C063B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B157-2ABB-4A24-826C-E95001D47F21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1333800" y="1569960"/>
            <a:ext cx="67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Uresničevanje pravila n+2/3 za OP RČV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324000" y="2433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  <a:ea typeface="Arial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378000" y="4952880"/>
            <a:ext cx="56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Stopnja doseganja FN 2007-2013 na dan 9. 5. 2014: 73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01760" y="2627280"/>
          <a:ext cx="8151840" cy="162000"/>
        </p:xfrm>
        <a:graphic>
          <a:graphicData uri="http://schemas.openxmlformats.org/drawingml/2006/table">
            <a:tbl>
              <a:tblPr/>
              <a:tblGrid>
                <a:gridCol w="8151840"/>
              </a:tblGrid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Uredba (EU) št. 539/2010 z dne 16.6.2010 o spremembi 93. člena Uredbe (ES) št. 1083/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15" descr=""/>
          <p:cNvPicPr/>
          <p:nvPr/>
        </p:nvPicPr>
        <p:blipFill>
          <a:blip r:embed="rId1"/>
          <a:stretch/>
        </p:blipFill>
        <p:spPr>
          <a:xfrm>
            <a:off x="385920" y="2827440"/>
            <a:ext cx="8073720" cy="2039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4E4B-1553-45DC-9E70-361CBD5F46CC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2DED-6FE7-4725-8218-2999F8DF3785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28,2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78,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4 na dan 9. 5. 2014 = 39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2-06-04T14:32:47Z</cp:lastPrinted>
  <dcterms:modified xsi:type="dcterms:W3CDTF">2014-05-16T15:29:33Z</dcterms:modified>
  <cp:revision>166</cp:revision>
  <dc:subject/>
  <dc:title>Naslov</dc:title>
</cp:coreProperties>
</file>